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3F6-94BB-439E-B87C-2602E2B8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4DF-F986-48B8-8D15-928A41B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3FC-C810-4449-82DA-272134EF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84E-3F2F-4FA4-A50C-4C2B03BC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5203-F967-4482-92F4-E8BF918A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121F-A6F3-4DDC-92C2-17A7E28F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922A-36C1-47CA-9CBA-3299C75F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D96F-298B-40FA-8ED0-50D38072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FF58-BBE6-447B-9229-97DCD5B3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F213-527E-4E36-900F-6EE03A34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07FB-EF49-4D1B-AA7F-8059D853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0AB-F8EA-4982-B4DB-FAB1BA2B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7C8A-2A8E-4D7F-AB55-20B13EA4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D78A-CFF6-4CF0-A8D6-0C7E7646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5CE4-3F6F-4D87-9F5B-A9444265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781A-E558-4960-A48F-CF2382FB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D505-91D9-4BC3-A71B-CEEA2675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9B1-954D-49B5-A154-A4ACF750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EBC-6DE0-40D0-BF3E-915BFFE3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3DE-E533-4825-866E-4AA04D53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3B9-CCC4-4212-9767-60A25E7A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44F-F66F-46A1-B805-0C300B35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FED-B677-460C-AC4D-0ADC220B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2F7-CAAD-4B20-9728-08E1733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E3AE-09DC-4250-937A-9352C298D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C0A6-D4A1-426E-967F-535CB12D5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osmos.msu.ru/" TargetMode="External"/><Relationship Id="rId2" Type="http://schemas.openxmlformats.org/officeDocument/2006/relationships/hyperlink" Target="http://www.sseti.org/" TargetMode="External"/><Relationship Id="rId3" Type="http://schemas.openxmlformats.org/officeDocument/2006/relationships/hyperlink" Target="http://microsat.sm.bmstu.ru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sat.org/" TargetMode="External"/><Relationship Id="rId2" Type="http://schemas.openxmlformats.org/officeDocument/2006/relationships/hyperlink" Target="http://www.ariss.or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Радиолюбительские спутники</a:t>
            </a: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для науки</a:t>
            </a: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и образования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520" y="4114800"/>
            <a:ext cx="8610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лександр Зайцев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rw3dz@rambler.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437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ем радиоизлучения Юпитера и Солнца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3809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radiojove.gsfc.nasa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Radio-Jov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53040" cy="1295280"/>
          </a:xfrm>
          <a:prstGeom prst="rect">
            <a:avLst/>
          </a:prstGeom>
          <a:ln w="0">
            <a:noFill/>
          </a:ln>
        </p:spPr>
      </p:pic>
      <p:pic>
        <p:nvPicPr>
          <p:cNvPr id="117" name="collage-1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711216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то могут радиолюбители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бъединение науки и  образования  на базе использования радиолюбительских  микроспутников – путь освоения высоких технологи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SCAR-5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E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e-P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d another &gt; 20 micro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rom Univers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all-satellites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8006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орога в будущее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ля СРР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ARRL-edu-bigproject" descr=""/>
          <p:cNvPicPr/>
          <p:nvPr/>
        </p:nvPicPr>
        <p:blipFill>
          <a:blip r:embed="rId1"/>
          <a:stretch/>
        </p:blipFill>
        <p:spPr>
          <a:xfrm>
            <a:off x="685800" y="2217600"/>
            <a:ext cx="3200400" cy="315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95680" y="2057400"/>
            <a:ext cx="419580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ализация программ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смического образ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школ и университет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ссии и зарубежных стран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на базе использования и разработки микроспут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0.09.2005, ДОМОДЕДОВО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W3DZ  &amp; All Russian H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овые микроспутники в России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52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Университетский-Татьяна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-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Arial"/>
                <a:hlinkClick r:id="rId1"/>
              </a:rPr>
              <a:t>http://cosmos.msu.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щен 20 января 2005 г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улкан – Компас 2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- ИЗМИРАН, КБ Макеева, НИИЯФ МГУ,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ск – в конце 2005 г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жаец-5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овместно с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“SSETI-Express”-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ЕКА,  см.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Arial"/>
                <a:hlinkClick r:id="rId2"/>
              </a:rPr>
              <a:t>http://www.sseti.or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ск –  октябрь 2005 г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ауманец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75”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Arial"/>
                <a:hlinkClick r:id="rId3"/>
              </a:rPr>
              <a:t>http://microsat.sm.bmstu.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ск – начало 2006 г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Чибис»  -  разработка СКБ ИКИ, Таруса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ск – 2007 го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чти на всех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их спутниках стоят радиолюбительские           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транслятор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ы,  и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готовлнные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в Калуге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групп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й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.Папкова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A3XB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                                    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.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14800" y="533160"/>
            <a:ext cx="54864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атьяна -МГУ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50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апущен 20 января 2005 года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араметры спутника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общий вес 30 кг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полезная нагрузка – 7 кг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 телеметрия 145 Мгц вверх, 435 Мгц      вниз, скорость 9600 б/сек</a:t>
            </a: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сновные приборы: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атчик УФ излучения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- Детекторы электронов и протонов в диапазоне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00 keV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1 MeV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24280" y="838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sputnik-11-2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1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“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улкан – Компас 2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760" y="213336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боры под эгидой ИЗМИРА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1.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НЧ- комплек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2.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GPS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/ГЛОНАСС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риемни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3.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як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RBE-TX 150 / 400 Mhz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4.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В-спектрометр плазменных вол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боры под эгидой НИИЯ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атчик УФ излучения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6.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текторы электронов и протонов в диапазоне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00 keV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1 MeV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KOMPAS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810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“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ибис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– запуск в 2007 г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760" y="213336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Основные задачи микроспутника «Чибис»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1.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иторинг атмосферы, контроль распределения и трендов парниковых газов, регистрирование крупных выбросов вещества в атмосферу, включая вулканическую деятельность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2.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ониторинг лесных пожаров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3.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блюдения за состоянием ионосферы в экстремальных условиях космической погоды и террагенного воздействия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4.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ализация программы космического образования для школ и университетов России и зарубежных стран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</a:t>
            </a: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5.Создание универсальной платформы для фундаментальных, прикладных и образовательных целей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 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Chibis-1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322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Радиолюбительские микроспутники на орбите сегодня :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OSCAR-51”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щен 29 июня 2004 года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Arial"/>
                <a:hlinkClick r:id="rId1"/>
              </a:rPr>
              <a:t>http://www.amsat.or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mSat (VUSat)” 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пущен 05 мая 2005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путники запущенные ранее 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O-27, FO-29, GO-32, SO-41, MO-46, SO-50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учный спутник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ST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– см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w.astro.ubc.ca/MOST/overview.html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Любительское радио на МКС : 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Arial"/>
                <a:hlinkClick r:id="rId2"/>
              </a:rPr>
              <a:t>http://www.ariss.or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        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икроспутник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СКАР-5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alog Uplin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45.920 MHz FM (PL - 67Hz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68.700 MHz FM (PL - 67Hz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alog Downlin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35.300 MHz FM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401.200 MHz F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SK-31 Up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8.140 MHz US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gital Uplin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45.860 MHz 9600 bps, AX.25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68.700 MHz 9600 bps A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gital Downlin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35.150 MHz 9600 bps, AX.25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401.200 MHz 38,400 bps, A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echo_chuck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28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сновные данные спутника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SETI-Expres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ice Uplink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37.250 FM 67Hz CTCSS, AX.25, design of Holger Eckardt,  DF2FQ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ice Downlink 2401.835 F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cket Up/Downlink  437.250 9k6 pa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cket Downlink 2401.840 38k4 pa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атус : Цифровые моды связи будут использованы для передачи данных от датчиков и двух приборов –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MOS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меры и магнитометра. ЕКА намерено объявить конкурс среди радиолюбителей – тот, кто примет наибольший объем телеметрии получит ценный приз. Схема связи будет такая же, как и для спутника ОСКАР-51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sseti1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икроспутник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S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ttp://www.astro.ubc.ca/MOST/overview.html</a:t>
            </a: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410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MOST (Microvariability and Oscillations of Stars) is a Canadian micro-satellite project dedicated to seismology of Sun-like and magnetic stars as well as to study microvariability in Wolf-Rayet winds and many other targets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atellite 65 x 65 x 30 cm; mass ~ 60 kg, solar panels and attitude control system with reaction wheels and magneto- torquers within 10 arc/sec accuracy Three S-band stations in Toronto, Vancouver, and Vienna 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uplink 9,600 kBs and data downlinked at 38,400 kBs.Optical Telescope with 15 cm across, CCD camera with 1024 by 1024 pixelsfilter in the range 350 - 700 nm.  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launched by Rockot launcher at June 30, 2003, from Plesetsk on  polar sun-synchronous orbit approx. 820 km, period ~ 100 min, have a Continuous Viewing Zone (CVZ) about -19 to +36 degrees in which a selected target star observable for up to 60 days without interruption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ttp://ams.astro.univie.ac.at/space_most.ph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title" descr=""/>
          <p:cNvPicPr/>
          <p:nvPr/>
        </p:nvPicPr>
        <p:blipFill>
          <a:blip r:embed="rId1"/>
          <a:stretch/>
        </p:blipFill>
        <p:spPr>
          <a:xfrm>
            <a:off x="3478320" y="5743440"/>
            <a:ext cx="5665680" cy="1114560"/>
          </a:xfrm>
          <a:prstGeom prst="rect">
            <a:avLst/>
          </a:prstGeom>
          <a:ln w="0">
            <a:noFill/>
          </a:ln>
        </p:spPr>
      </p:pic>
      <p:pic>
        <p:nvPicPr>
          <p:cNvPr id="113" name="most_beauty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08:13:18Z</dcterms:created>
  <dc:creator>Администратор</dc:creator>
  <dc:description/>
  <dc:language>en-US</dc:language>
  <cp:lastModifiedBy>Администратор</cp:lastModifiedBy>
  <dcterms:modified xsi:type="dcterms:W3CDTF">2005-10-18T09:03:54Z</dcterms:modified>
  <cp:revision>56</cp:revision>
  <dc:subject/>
  <dc:title>SPACE SCIENCE EDUCATION BASED ON THE USAGE OF MICROSATELLITES  </dc:title>
</cp:coreProperties>
</file>